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9CF-8139-4F8C-B0FD-81A63EF4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071-F6D9-4535-B47F-E0C6B5BD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FF5-6CEF-4C87-92E9-DDED9954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97D-9E78-49E4-9F89-902C62D1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8AE8D-F6A2-4C34-BC12-CA5025A2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1B288-569F-4391-9B5E-48C64510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74B96-C0EF-4963-9A17-1BA764DB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4E180-3778-45D3-82EF-8641F053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42A85-678E-4A7A-9615-86278E29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D93E3-4AD6-4732-AA5C-1CE4B3F1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7A257-6800-415C-80CE-D476523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4A5-F39D-4C11-B80B-80664074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AF8B5-542D-4A95-8DC9-86AD06F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0ECDA-878C-48BC-B62D-D24E3DBE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2378B-A197-42A8-A1F6-4E4A18DC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06E73-22E2-4B3B-9631-B5593FF2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49ECE-C543-4864-86BA-FFD7CDF9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408-13FD-4A5E-916C-040A490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705-E13E-44D9-841C-612511CF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390-8FFC-4642-A48B-1A02520D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ECE-1686-4D32-B3F7-27AD6FF0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DBE-EF1D-4528-9D66-D2353404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649-6DF3-4CCE-B492-2759855F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CAF-5FC2-4610-84E9-93AD679F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527-9377-4E1D-996B-CAE36C8C0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A32F-324C-42C5-9BFA-CFC7171C9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hree Little Domains That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re Bigger Than A Kingd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has DNA changed taxonom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(deoxyribonucleic acid) revolutionized scientists ability to describe the relationships between organis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now used to describe how organisms are similar to each other in a very specific way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TIC C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e-Domain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DNA analysis was available, scientists have discovered that similarities in DNA existed between three major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ll these groups the three dom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mai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larger than kingd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three domai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ientists used DNA evidence to divide all organisms into three main domain grou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a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kar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main: Bac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karyo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tidoglycan in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one type of RNA polymerase (enzyme involved in protein synthe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introns (noncoding regions of ge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tive to streptomycin (type of antibiot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embrane-enclosed organel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main:  Archa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karyo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eptidoglycan in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kinds of R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introns in some ge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ensitive to 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main:  Eukar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karyotic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eptidoglycan in cell w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 may not be pres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kinds of R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ns present throughout genetic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ensitive to 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ngdoms of Each Doma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 Bacteria contains Kingd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ubacte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 Archaea contains Kingd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chaebacte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 Eukarya contains the kingdo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tista, Fungi, Plantae, &amp; Animal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 a table that demonstrates the three domains and the presence/absence of certain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5:12:58Z</dcterms:created>
  <dc:creator>kmcgrady</dc:creator>
  <dc:description/>
  <dc:language>en-US</dc:language>
  <cp:lastModifiedBy>kmcgrady</cp:lastModifiedBy>
  <dcterms:modified xsi:type="dcterms:W3CDTF">2010-08-24T18:21:32Z</dcterms:modified>
  <cp:revision>3</cp:revision>
  <dc:subject/>
  <dc:title>The Three Little Domains</dc:title>
</cp:coreProperties>
</file>